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BF47-881F-4844-8ACF-562880F47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9B0-3A87-4B70-A3DB-50E49428E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8660-ACD1-4792-9B78-F7616A72E9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E88-FC87-461B-9CCD-238DEADF28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960-C078-4DFE-8539-B20B318E1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4EA-8021-4D2E-937C-784FBD7CA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226A-4905-4717-A423-5A7ACE08E3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99B-6CC4-4335-A61D-020F83507A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7FE-CEA5-4A95-B0DC-7DC342D36C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B3D-0E64-41A5-B8F8-88000BA93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D951-7382-411F-8C74-209C32F2D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C64-E9EF-4FB2-BDBA-23C35DA34F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DB2-8576-4BC6-96EB-474F98B0F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5E92-0D3B-40A8-95C8-7AFD0F2531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CDD-59C0-4C65-8064-9F1C870E3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C2D1-2B00-44D1-A271-56B0B617E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87C-8F23-4312-A4C3-D691157CAE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3F6-1E61-4502-9702-D281AF4EF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D58F-6CB8-42F9-8A1F-BF23BAA74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758-E4B3-40AF-B915-0F88FA1333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419E-0779-4008-BBAE-DF2113E49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B199-8E4F-40F8-A8F0-8FE38E9E73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C89-9E53-4554-80F5-0D2DECBA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035-A51C-4F26-AE1B-6AD1874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201-EB60-48D0-AC6F-E3026F04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587-4518-43A3-8924-ADBAF0F6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229-CE70-412E-92E9-AE40D758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7DF-65F4-4499-ACC7-8165A337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61B-BB20-4154-AD81-E375BFC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E64-537E-4D10-9990-32A3F661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B13-7BB3-4856-821D-75465B0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934-AF5F-4197-BCBF-71A6DE3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21B-1E54-4F21-A7D5-B2A08876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CE0-47CE-417F-8826-EF9931A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E87A-83E0-404A-AE3C-9F6E39A850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WORLD GENOCIDE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2666520"/>
            <a:ext cx="8991720" cy="3429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meni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odi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wand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rfu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enocide in Rwanda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:  Rwanda, Afric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:  April 1994 ----100 d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petrators: Hutu (Government and Interahamwe militia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ictims:  Tutsi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utus were the majority (80%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utsi were the minority (20%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:  Mass murder, torture, rape and forced relocation of Tutsi peop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traditional tribal differences made worse by the Belgian colonial powers who had controlled Rwanda.  They favored the Tutsi and this made the majority Hutu very upset when they left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aths and tolls:  1.2 million dead in 100 days!! (That’s 10,000 a day or 400 an hour).  Many of the surviving women were subject to rapes and received HIV.  400,000 orphan childr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ults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RPF (Rwandan Patriotic Front) a Tutsi army that had fled to a neighboring country returned and was able to stop the genocid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USA and other governments around the world knew this was going on and did not stop it!!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984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4548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Questions for reading activity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re the similarities and differences between Hutus and Tutsi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happened when the Belgians came to Rwanda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as the RPF and what was its purpos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sparked the killing in April of 1994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IT TICKET (Full response required)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im:  What is going on in Darfur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46(Darfur)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962520" cy="3200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w:  What do you think is going on in this im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32878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enocide in Darfu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re:  Darfur region of Sudan in Afric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:  From 2003 to the Present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:  Darfur Citizens targeted by the Sudanese Janjiweed militia (Arab contract militia known for their violent methods and use of child soldier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1911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rmenian Genocide also known as the Armenian Holocaust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:  Ottoman Empire (Turke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:  1915-191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:  The Ottomans against the ethnic group called the Armenians (currently from the country of Armenia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15400" cy="350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:  Systematic killing of the civilians of the Darfur region.  Methods used including bombing, burning villages, murdering, raping and torturing.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:  Political and religious/ethnic conflic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litical:  Gov wants control of the farmland in Darfu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ligious/ Ethnic:  Lighter skinned Muslims targeting darker skinned Muslims (and some Christians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aths and tolls:  400,000 dead.  2.7 million displaced to refugee camps--- deaths ongoing with about 1,000 dying each month due to murder and dise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5583240" y="0"/>
            <a:ext cx="356076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0" y="25909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>
            <a:off x="5486400" y="3809880"/>
            <a:ext cx="317484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udan - Genocide question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re the differences between the people in Sudan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re the origins of the conflict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 are the Janjaweed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you think the government is lying about not supporting the Janjaweed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ffff66"/>
              </a:buClr>
              <a:buSzPct val="7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has the world done about the problems in Darfur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019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menian Genocide Continued…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hat:  The systematic killing and forced deportations of the Armenians.  The Ottomans set up forced labor concentration camps where the Armenians were assassinated and worked to death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hy:  Ethnic and cultural differences.  To this day the Turkish government denies the genocide!!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Deaths:  500,000 Armenians in 2 years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0" y="3276720"/>
            <a:ext cx="558792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3200400" y="0"/>
            <a:ext cx="5943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mbodian Genocide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:  Cambodia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: 1975-1979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:  Communist regime the Khmer Rouge against the Cambodian citizen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: mass killing at RANDOM of Cambodian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ne Khmer slogan ran: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80ff00"/>
                </a:solidFill>
                <a:latin typeface="Arial"/>
              </a:rPr>
              <a:t>'To spare you is no profit, to destroy you is no loss.'</a:t>
            </a:r>
            <a:r>
              <a:rPr b="0" lang="en-US" sz="1600" spc="-1" strike="noStrike">
                <a:solidFill>
                  <a:srgbClr val="80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aths: 2 million deaths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2374920"/>
            <a:ext cx="4178160" cy="448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81280" y="0"/>
            <a:ext cx="5562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84872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Aim:  What happened in Rwanda? 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L45</a:t>
            </a:r>
            <a:endParaRPr b="0" lang="en-US" sz="3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23880" y="3123720"/>
            <a:ext cx="6018480" cy="2057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Now:  List 4 facts you learned yesterday about Cambodia and Armenia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29:58Z</dcterms:created>
  <dc:creator>NYCDOE</dc:creator>
  <dc:description/>
  <dc:language>en-US</dc:language>
  <cp:lastModifiedBy>NYCDOE</cp:lastModifiedBy>
  <dcterms:modified xsi:type="dcterms:W3CDTF">2012-03-22T13:07:37Z</dcterms:modified>
  <cp:revision>14</cp:revision>
  <dc:subject/>
  <dc:title>FQ:  How did/does genocide look around the world? L71(worldgenocide)</dc:title>
</cp:coreProperties>
</file>